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C129-9CA3-413A-A9AB-45D16FBD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7BF1-3EDD-4003-B48E-CD50EDB9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E7BB-F510-4AC9-9EE4-EA3A3202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1659-21E5-4E58-9BA3-3CBFC74A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6019-782C-413B-9A8B-B5B4E3F0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E999-D630-4A18-BEF0-AB054D19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42CF-FFFD-4CF0-AE3B-7601BF04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EE3C-0A1C-4AE6-9654-9440D70F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6870-D929-47C2-B4A0-0BB540EB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B093-B5DC-4D24-A3FB-28A01AC8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6DD7-FC40-47BF-920D-1EF2199E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FA8A-FC43-43A1-983A-ED76E4AE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44E8-9DB5-4903-ABED-3CE412A2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8930-55F9-40B4-9EE2-C7CCFEB2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43E7-C13A-4236-99F0-66747D35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5BEA-1E62-4216-AFA7-76C6717C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9FFE-474D-4D5D-8CBA-C0064E4C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5EF9-AB39-4A8A-A74B-9C25916E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30D2-6D5C-489F-BC45-E1255587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4356-056E-4A56-B328-3F5D69B7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9A74-0829-4509-A12F-46695C01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3374-ED03-4AEC-A711-1C274B60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07E-1B04-4E76-A8E9-4482F719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8145-7661-4E19-BED7-3AD741C4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871B-D741-423A-BDA0-836B8BCB6A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13BA-F2A8-4C98-87D7-59543DFC40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acilitating Successful Parent Meeting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an the Parent 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te a discussion for how the parent can help address the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er suggestions if they have n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e them down the path we want them to 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tudents P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2-3 realistic changes the student can mak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ind the parents that ultimately it is up to the chi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s and parents can work but the child must do their pa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helps to avoid laying bl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ing the Child 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 the student to the mee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that the parents and teachers are working together because they care about the chi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has a lasting impact on the chi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tud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the student if they feel they can do bet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them to pick 2-3 areas that they can do to address the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e them if you have 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the child to agr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ding the Mee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ze what each group has agreed to 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k a time to evaluate the students, usually 2 or 3 wee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use the student and thank the parent for com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k the parent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-Mee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 the goal of the mee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ant Johnny to do more home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ant Johnny to improve his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ant Johnny to arrive to class on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-Mee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what it is that we think the parent will w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to Accomplish the Go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we want fr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r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u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ing Environ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a team member greet the parent in the off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rive on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prepa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e all me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friend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rting the Mee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with a posi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the issue at h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that parents/teachers are working together for then stud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confident that the problem area can be impro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senting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around the circle of teachers each explaining the students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person should start with something posi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arents Tur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the parent a turn to ta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y seeing at ho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orks well for the chil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ets them off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eam Solu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 strategies that the team will implement to help the chi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how them we are working and willing to work to help their chi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22:59:15Z</dcterms:created>
  <dc:creator>Administrator</dc:creator>
  <dc:description/>
  <dc:language>en-US</dc:language>
  <cp:lastModifiedBy>North Rockland Schools</cp:lastModifiedBy>
  <dcterms:modified xsi:type="dcterms:W3CDTF">2008-10-07T11:47:00Z</dcterms:modified>
  <cp:revision>4</cp:revision>
  <dc:subject/>
  <dc:title>Facilitating Successful Parent Meetings</dc:title>
</cp:coreProperties>
</file>